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DFCD-B842-46E6-A2E0-CD272B5DC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EC80-1918-42D6-838A-C7C3CB0A1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8447-C391-4055-AF68-437C5DC51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5A9F-0731-485D-A3FE-38A4D582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0120-8299-4C09-AEF5-B1DF48C10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63E-F815-442A-A59F-F301D444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25D-1B8A-4951-92D8-E401A00C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CCE-8CA5-473D-A4AF-FBA60781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1E1-1B01-4F0D-98A9-99401845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926-81B2-4BB1-9DB4-8E61D5F1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169-E031-4302-B68A-69CB00F9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6DA-422E-4B68-B277-40CF2F1C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494-74F5-4940-8D34-1A1645DD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E9D-AD61-4204-9188-53BA46F4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16F-F2C3-4B38-AA2D-BCD773AE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750-F11D-4030-B595-3059C564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A92-4124-4592-824A-398F5F9B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E82A-B184-45BB-AAD0-E7F2238AE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http://www.absolutechinatours.com/UploadFiles/ImageBase/2008122182342678_2(1).jpg"/>
          <p:cNvPicPr/>
          <p:nvPr/>
        </p:nvPicPr>
        <p:blipFill>
          <a:blip r:embed="rId1"/>
          <a:stretch/>
        </p:blipFill>
        <p:spPr>
          <a:xfrm>
            <a:off x="380880" y="3124080"/>
            <a:ext cx="64389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78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eries of connected mountai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6781680" y="350532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TN. R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http://www.ecardmedia.eu/data/media/49/Brooks%20Mountain%20Range,%20Alaska.jpg"/>
          <p:cNvPicPr/>
          <p:nvPr/>
        </p:nvPicPr>
        <p:blipFill>
          <a:blip r:embed="rId1"/>
          <a:stretch/>
        </p:blipFill>
        <p:spPr>
          <a:xfrm>
            <a:off x="914400" y="1828800"/>
            <a:ext cx="55213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how is a straight similar to an isthm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both narrow and connects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9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gulf and a bay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2209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y is smaller than a gu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http://www.gulfbase.org/gulf/GomDepth.jpg"/>
          <p:cNvPicPr/>
          <p:nvPr/>
        </p:nvPicPr>
        <p:blipFill>
          <a:blip r:embed="rId1"/>
          <a:stretch/>
        </p:blipFill>
        <p:spPr>
          <a:xfrm>
            <a:off x="380880" y="3581280"/>
            <a:ext cx="3648240" cy="289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ttp://www.destination360.com/caribbean/jamaica/images/s/montego-bay.jpg"/>
          <p:cNvPicPr/>
          <p:nvPr/>
        </p:nvPicPr>
        <p:blipFill>
          <a:blip r:embed="rId2"/>
          <a:stretch/>
        </p:blipFill>
        <p:spPr>
          <a:xfrm>
            <a:off x="5410080" y="3686040"/>
            <a:ext cx="3057480" cy="2819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76212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48640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cape different than a peninsu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19810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ape is sma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http://t3.gstatic.com/images?q=tbn:ANd9GcTItnzNcU7JUxbBzkmgn754nb_LPdssueWfNDD57N8eZs_rkWsp"/>
          <p:cNvPicPr/>
          <p:nvPr/>
        </p:nvPicPr>
        <p:blipFill>
          <a:blip r:embed="rId1"/>
          <a:stretch/>
        </p:blipFill>
        <p:spPr>
          <a:xfrm>
            <a:off x="685800" y="4191120"/>
            <a:ext cx="243828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http://t1.gstatic.com/images?q=tbn:ANd9GcSf2egqPeI-vDWXP39ToO9319EJxHTc1dcJaOp86vf-HGS0qYxA"/>
          <p:cNvPicPr/>
          <p:nvPr/>
        </p:nvPicPr>
        <p:blipFill>
          <a:blip r:embed="rId2"/>
          <a:stretch/>
        </p:blipFill>
        <p:spPr>
          <a:xfrm>
            <a:off x="5715000" y="4191120"/>
            <a:ext cx="2266920" cy="20095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2"/>
          <p:cNvSpPr/>
          <p:nvPr/>
        </p:nvSpPr>
        <p:spPr>
          <a:xfrm>
            <a:off x="762120" y="3657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6019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oasis different from a la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19810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sis is sma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62120" y="3657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6019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http://allkindsofhistory.files.wordpress.com/2011/05/157086xcitefun-crater-lake-1.jpg"/>
          <p:cNvPicPr/>
          <p:nvPr/>
        </p:nvPicPr>
        <p:blipFill>
          <a:blip r:embed="rId1"/>
          <a:stretch/>
        </p:blipFill>
        <p:spPr>
          <a:xfrm>
            <a:off x="380880" y="4191120"/>
            <a:ext cx="289584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www.buzzle.com/images/geography/oasis.jpg"/>
          <p:cNvPicPr/>
          <p:nvPr/>
        </p:nvPicPr>
        <p:blipFill>
          <a:blip r:embed="rId2"/>
          <a:stretch/>
        </p:blipFill>
        <p:spPr>
          <a:xfrm>
            <a:off x="4800600" y="4114800"/>
            <a:ext cx="33336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area of flat or nearly flat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0102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Pl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828800" y="36576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http://www.great-adventures.com/images/tanzania/Unending%20Plain.jpg"/>
          <p:cNvPicPr/>
          <p:nvPr/>
        </p:nvPicPr>
        <p:blipFill>
          <a:blip r:embed="rId1"/>
          <a:stretch/>
        </p:blipFill>
        <p:spPr>
          <a:xfrm>
            <a:off x="838080" y="2819520"/>
            <a:ext cx="53056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oint of land that extends into a river,lake,or ocean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www.rankopedia.com/CandidatePix/72089.gif"/>
          <p:cNvPicPr/>
          <p:nvPr/>
        </p:nvPicPr>
        <p:blipFill>
          <a:blip r:embed="rId1"/>
          <a:stretch/>
        </p:blipFill>
        <p:spPr>
          <a:xfrm>
            <a:off x="1905120" y="3124080"/>
            <a:ext cx="28573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lace where a river begin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http://www.eoearth.org/files/110601_110700/110690/270px-Fowlsheughscotlandcmichaelhogan.jpg"/>
          <p:cNvPicPr/>
          <p:nvPr/>
        </p:nvPicPr>
        <p:blipFill>
          <a:blip r:embed="rId1"/>
          <a:stretch/>
        </p:blipFill>
        <p:spPr>
          <a:xfrm>
            <a:off x="1828800" y="2743200"/>
            <a:ext cx="4092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untain created as liquid rock and ash erupt from the inside the 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ttp://www.solarnavigator.net/geography/geography_images/volcano_hawaii_kilauea_Puu_oo.jpg"/>
          <p:cNvPicPr/>
          <p:nvPr/>
        </p:nvPicPr>
        <p:blipFill>
          <a:blip r:embed="rId1"/>
          <a:stretch/>
        </p:blipFill>
        <p:spPr>
          <a:xfrm>
            <a:off x="609480" y="2209680"/>
            <a:ext cx="44672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gh, flat landform that rises steeply above the surrounding la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68120" y="-1417680"/>
            <a:ext cx="44578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http://ecocheetah.wikispaces.com/file/view/RoanPlateau.jpg/33997573/RoanPlateau.jpg"/>
          <p:cNvPicPr/>
          <p:nvPr/>
        </p:nvPicPr>
        <p:blipFill>
          <a:blip r:embed="rId1"/>
          <a:stretch/>
        </p:blipFill>
        <p:spPr>
          <a:xfrm>
            <a:off x="838080" y="2209680"/>
            <a:ext cx="4505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lat, low-lying land built up from soil carried downstream by a river and deposited at its mou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http://istgeography.wikispaces.com/file/view/delta_struct.gif/48078183/delta_struct.gif"/>
          <p:cNvPicPr/>
          <p:nvPr/>
        </p:nvPicPr>
        <p:blipFill>
          <a:blip r:embed="rId1"/>
          <a:stretch/>
        </p:blipFill>
        <p:spPr>
          <a:xfrm>
            <a:off x="990720" y="2666880"/>
            <a:ext cx="4152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uge sheet of ice that moves slowly across the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rosssea.info/pix/big/Commonwealth-Glacier-Face.jpg"/>
          <p:cNvPicPr/>
          <p:nvPr/>
        </p:nvPicPr>
        <p:blipFill>
          <a:blip r:embed="rId1"/>
          <a:stretch/>
        </p:blipFill>
        <p:spPr>
          <a:xfrm>
            <a:off x="762120" y="2057400"/>
            <a:ext cx="5019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very dry area where few plants g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76320" y="-390600"/>
            <a:ext cx="11714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http://images.free-extras.com/pics/d/desert_sun-1209.jpg"/>
          <p:cNvPicPr/>
          <p:nvPr/>
        </p:nvPicPr>
        <p:blipFill>
          <a:blip r:embed="rId1"/>
          <a:stretch/>
        </p:blipFill>
        <p:spPr>
          <a:xfrm>
            <a:off x="838080" y="2590920"/>
            <a:ext cx="50864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16:01:07Z</dcterms:modified>
  <cp:revision>47</cp:revision>
  <dc:subject/>
  <dc:title>PowerPoint Presentation</dc:title>
</cp:coreProperties>
</file>